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wmf" ContentType="image/x-wmf"/>
  <Override PartName="/ppt/media/image28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7.jpeg" ContentType="image/jpeg"/>
  <Override PartName="/ppt/media/image29.jpeg" ContentType="image/jpeg"/>
  <Override PartName="/ppt/media/image8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9.png" ContentType="image/png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13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7300" spc="-1" strike="noStrike" u="sng">
                <a:solidFill>
                  <a:srgbClr val="c00000"/>
                </a:solidFill>
                <a:uFillTx/>
                <a:latin typeface="Cambria"/>
              </a:rPr>
              <a:t>Click to move the slide</a:t>
            </a: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9"/>
          </p:nvPr>
        </p:nvSpPr>
        <p:spPr>
          <a:xfrm>
            <a:off x="427788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149B5-A1CC-42B9-880A-3F234CE366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C7BE5-0E90-48F3-A155-94C03E5321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C1B14-E06D-492A-9AF5-FC4EA3964E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8" name="Text Box 3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89FAA-2A15-4F31-9065-37C17BE77C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6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ACA9C-4163-4B73-8E34-F6E5B023C1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42920" y="949320"/>
            <a:ext cx="6248520" cy="4687920"/>
          </a:xfrm>
          <a:prstGeom prst="rect">
            <a:avLst/>
          </a:prstGeom>
          <a:ln w="0">
            <a:noFill/>
          </a:ln>
        </p:spPr>
      </p:sp>
      <p:sp>
        <p:nvSpPr>
          <p:cNvPr id="368" name="Text Box 2"/>
          <p:cNvSpPr/>
          <p:nvPr/>
        </p:nvSpPr>
        <p:spPr>
          <a:xfrm>
            <a:off x="833400" y="5938920"/>
            <a:ext cx="666756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8704F-5BED-459A-9A94-F2D923C20C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71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A2A59-176C-47E6-AA52-C4908162F4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74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7E642-2E11-47DF-9BC6-885AEBF538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77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7BEE1-006B-42DE-B424-05B33A439B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80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94063-E4C7-4DC4-904D-B20B67B2CD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383" name="Text Box 2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726CE-548C-44F7-AC3B-F6DD57715E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8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F247A-E3D9-4965-BECA-2652F16729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8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F2D63-9DF3-457C-A155-41AB0B4098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92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CB50D-5327-495D-94EC-5AD8137FF6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4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8AC78-366D-40C2-892D-1223BEB2B2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95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9CE80-9F64-4EC2-82CF-2CC6229C20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9E256-AD28-4974-A175-08E242ADB7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9" name="Text Box 3"/>
          <p:cNvSpPr/>
          <p:nvPr/>
        </p:nvSpPr>
        <p:spPr>
          <a:xfrm>
            <a:off x="75564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3CAA2-A4A7-480B-8309-0F8C1F838E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402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9B8A2-6212-4B13-927F-779E24DEDB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40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8E0E1-7B88-4DF5-A1FC-726E10A9C4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408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83B52-BEA5-4DA8-8B74-277536B407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42920" y="949320"/>
            <a:ext cx="6248520" cy="4687920"/>
          </a:xfrm>
          <a:prstGeom prst="rect">
            <a:avLst/>
          </a:prstGeom>
          <a:ln w="0">
            <a:noFill/>
          </a:ln>
        </p:spPr>
      </p:sp>
      <p:sp>
        <p:nvSpPr>
          <p:cNvPr id="411" name="Text Box 2"/>
          <p:cNvSpPr/>
          <p:nvPr/>
        </p:nvSpPr>
        <p:spPr>
          <a:xfrm>
            <a:off x="833400" y="5938920"/>
            <a:ext cx="666756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47AD9-21A3-47AF-B978-D95068D35A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414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0D227-A04F-4567-9A8F-EA227FABE0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4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10720-B853-4377-BE6A-B7A96DFFDF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4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9D419-69DB-4648-849C-833604A561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5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5BA37-D177-414F-94BE-0C5F1E7AAE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5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2CD0E-57FE-4089-84EB-C54C44DB44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5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EEE48-655F-4BF6-A027-75290EC8BD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5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9"/>
          <p:cNvSpPr/>
          <p:nvPr/>
        </p:nvSpPr>
        <p:spPr>
          <a:xfrm>
            <a:off x="4278240" y="10156680"/>
            <a:ext cx="3274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8F41B-8259-4DB2-B1D8-F406FD3322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5280" cy="4010040"/>
          </a:xfrm>
          <a:prstGeom prst="rect">
            <a:avLst/>
          </a:prstGeom>
          <a:ln w="0">
            <a:noFill/>
          </a:ln>
        </p:spPr>
      </p:sp>
      <p:sp>
        <p:nvSpPr>
          <p:cNvPr id="36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0CA4-BD6E-47A8-81C6-A51B54720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5EA8-999A-4E92-BF53-8C61083E8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7122-19ED-4341-846F-FF5BE1EBF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1910-F70B-4650-A070-294CFFA8C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816-C5B4-44DE-B19F-082B0E3991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074-5D33-40A9-B20F-90034C97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41E-E789-4DE6-91FD-D06003AF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6EDC-61D7-43B7-A12D-759461BA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0EB-D193-4725-A7AC-DFA169D6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BC3-7F72-4A83-A3A0-6ADE5F9B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D78-674B-4812-9821-627732E7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D1E0-321A-4C9C-9797-6C3018CC5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DEB-3280-46FA-866B-4EAB6583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361-EFC6-4DA3-8AF2-CD9D4B89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40E-CB3F-4C2B-8C6A-F22C9A6E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957-0C9B-4CE8-93A8-FD3EE0BC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D48-DE56-42E2-92AE-59EC2B22F8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BDFF4-6F38-42D5-AF58-614F7131ED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4C781-9D60-4C83-A4E6-9C2F8355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6B0A9-AE69-4AB8-8A5A-9C9ED067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FED1E-07C6-4760-A6BA-A36D4CC9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23EC7-2E6A-47FA-84C2-4DEBF0FC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8C1F-F08B-4067-9581-BC6FA47176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CC6C2-C6B5-4A19-93E7-7BA2BA98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2C3A6-2AC5-45C8-8B37-D1BCF140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0A82B-E15D-4E35-8DC0-6EF48588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36D43-4205-4756-AC09-C2A59F1B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D6EC9-BAA9-40A7-BFF6-5E6C17F7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BC5E1-FAB1-4E17-8F4F-F7CF1333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BE1F1-B084-4CD1-B433-5F0B978ED6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577E3-F013-441B-95B5-D16662AA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93183-3969-472F-AECB-FFDE567D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29D82-EF79-4FA1-92DC-58C5EBCE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BBD3-D175-438B-BAD3-C57DA43D65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F794D-C594-4C61-9460-E75A892C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84B79-FAD7-422B-8AE5-B142DE93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C6E6E-C252-47DB-9139-1DA95299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36B1F-3AFE-4AED-8F94-871E6D8C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7EE76-16C5-4F7F-A3EC-F40C388D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F1A40-66EC-47B8-96B5-56985710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8DBA5-D38A-4F93-AC7D-808D5F1B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AFD81-ECAD-40E2-877C-7D177CE4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F2BB8-1686-490F-B7A0-40A53DE2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04D7-C0EC-47C9-9074-C8C9F5FA0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0DC3-FEC3-41F9-BA3F-B2A12A557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54E1-D11A-452A-98E5-B8BD3AC2D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029D-25B3-4A19-A203-5101A4B77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59C8-2EC7-4A54-8D75-4CEB27194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7300" spc="-1" strike="noStrike" u="sng">
                <a:solidFill>
                  <a:srgbClr val="c00000"/>
                </a:solidFill>
                <a:uFillTx/>
                <a:latin typeface="Cambria"/>
              </a:rPr>
              <a:t>Click to edit the title text format</a:t>
            </a:r>
            <a:endParaRPr b="1" i="1" lang="en-US" sz="7300" spc="-1" strike="noStrike" u="sng">
              <a:solidFill>
                <a:srgbClr val="c00000"/>
              </a:solidFill>
              <a:uFillTx/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B91E3-FDBB-480F-AECD-F97BB9A5666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157320" y="157320"/>
            <a:ext cx="1574640" cy="157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2"/>
          </p:nvPr>
        </p:nvSpPr>
        <p:spPr>
          <a:xfrm>
            <a:off x="503280" y="7007400"/>
            <a:ext cx="2347920" cy="3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89377-04B1-4AE8-B9CE-EF4C41644F00}" type="datetime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3"/>
          </p:nvPr>
        </p:nvSpPr>
        <p:spPr>
          <a:xfrm>
            <a:off x="8503920" y="7322760"/>
            <a:ext cx="106668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800" spc="-1" strike="noStrike">
                <a:solidFill>
                  <a:srgbClr val="bfbfb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44BB4385-3028-4C73-B262-F121B254C9E5}" type="slidenum">
              <a:rPr b="0" lang="ru-RU" sz="800" spc="-1" strike="noStrike">
                <a:solidFill>
                  <a:srgbClr val="bfbfbf"/>
                </a:solidFill>
                <a:latin typeface="Calibri"/>
                <a:ea typeface="Segoe U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0">
              <a:lnSpc>
                <a:spcPct val="102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98440" indent="-2984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-9360" y="-7920"/>
            <a:ext cx="10101240" cy="1147680"/>
          </a:xfrm>
          <a:custGeom>
            <a:avLst/>
            <a:gdLst>
              <a:gd name="textAreaLeft" fmla="*/ 0 w 10101240"/>
              <a:gd name="textAreaRight" fmla="*/ 10101600 w 10101240"/>
              <a:gd name="textAreaTop" fmla="*/ 0 h 1147680"/>
              <a:gd name="textAreaBottom" fmla="*/ 1147680 h 1147680"/>
            </a:gdLst>
            <a:ahLst/>
            <a:rect l="textAreaLeft" t="textAreaTop" r="textAreaRight" b="textAreaBottom"/>
            <a:pathLst>
              <a:path w="10101263" h="1147763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7058"/>
                </a:srgbClr>
              </a:gs>
              <a:gs pos="100000">
                <a:srgbClr val="00c4cd">
                  <a:alpha val="5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48290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5249863" h="703263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>
                  <a:alpha val="32156"/>
                </a:srgbClr>
              </a:gs>
              <a:gs pos="100000">
                <a:srgbClr val="008abf">
                  <a:alpha val="4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-93600" y="-545760"/>
            <a:ext cx="10246680" cy="2250000"/>
            <a:chOff x="-93600" y="-545760"/>
            <a:chExt cx="10246680" cy="2250000"/>
          </a:xfrm>
        </p:grpSpPr>
        <p:sp>
          <p:nvSpPr>
            <p:cNvPr id="86" name="AutoShape 4"/>
            <p:cNvSpPr/>
            <p:nvPr/>
          </p:nvSpPr>
          <p:spPr>
            <a:xfrm rot="21420000">
              <a:off x="-55440" y="-280800"/>
              <a:ext cx="10162800" cy="1720800"/>
            </a:xfrm>
            <a:custGeom>
              <a:avLst/>
              <a:gdLst>
                <a:gd name="textAreaLeft" fmla="*/ 0 w 10162800"/>
                <a:gd name="textAreaRight" fmla="*/ 10162800 w 10162800"/>
                <a:gd name="textAreaTop" fmla="*/ 0 h 1720800"/>
                <a:gd name="textAreaBottom" fmla="*/ 1721160 h 1720800"/>
              </a:gdLst>
              <a:ahLst/>
              <a:rect l="textAreaLeft" t="textAreaTop" r="textAreaRight" b="textAreaBottom"/>
              <a:pathLst>
                <a:path w="6374" h="752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08abf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AutoShape 5"/>
            <p:cNvSpPr/>
            <p:nvPr/>
          </p:nvSpPr>
          <p:spPr>
            <a:xfrm rot="21420000">
              <a:off x="-51840" y="-83880"/>
              <a:ext cx="10175400" cy="1404360"/>
            </a:xfrm>
            <a:custGeom>
              <a:avLst/>
              <a:gdLst>
                <a:gd name="textAreaLeft" fmla="*/ 0 w 10175400"/>
                <a:gd name="textAreaRight" fmla="*/ 10175760 w 10175400"/>
                <a:gd name="textAreaTop" fmla="*/ 0 h 1404360"/>
                <a:gd name="textAreaBottom" fmla="*/ 1404720 h 1404360"/>
              </a:gdLst>
              <a:ahLst/>
              <a:rect l="textAreaLeft" t="textAreaTop" r="textAreaRight" b="textAreaBottom"/>
              <a:pathLst>
                <a:path w="6382" h="61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09dd9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6768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2133720"/>
            <a:ext cx="90676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503280" y="7007400"/>
            <a:ext cx="234792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1FF7C-40D0-4F37-91FE-8E477E7F80FA}" type="datetime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940120" y="7007400"/>
            <a:ext cx="3695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8736120" y="7007400"/>
            <a:ext cx="836640" cy="39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28DEC2E-E4DD-46E7-B3DB-D12F01467918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1"/>
          <p:cNvSpPr/>
          <p:nvPr/>
        </p:nvSpPr>
        <p:spPr>
          <a:xfrm>
            <a:off x="-9360" y="-7920"/>
            <a:ext cx="10099440" cy="1147680"/>
          </a:xfrm>
          <a:custGeom>
            <a:avLst/>
            <a:gdLst>
              <a:gd name="textAreaLeft" fmla="*/ 0 w 10099440"/>
              <a:gd name="textAreaRight" fmla="*/ 10099800 w 10099440"/>
              <a:gd name="textAreaTop" fmla="*/ 0 h 1147680"/>
              <a:gd name="textAreaBottom" fmla="*/ 1147680 h 1147680"/>
            </a:gdLst>
            <a:ahLst/>
            <a:rect l="textAreaLeft" t="textAreaTop" r="textAreaRight" b="textAreaBottom"/>
            <a:pathLst>
              <a:path w="10099675" h="1147763">
                <a:moveTo>
                  <a:pt x="0" y="0"/>
                </a:moveTo>
                <a:lnTo>
                  <a:pt x="28057" y="0"/>
                </a:lnTo>
                <a:lnTo>
                  <a:pt x="28057" y="3188"/>
                </a:lnTo>
                <a:lnTo>
                  <a:pt x="0" y="318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74a0"/>
              </a:gs>
              <a:gs pos="100000">
                <a:srgbClr val="00c4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48290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5249863" h="703263">
                <a:moveTo>
                  <a:pt x="0" y="0"/>
                </a:moveTo>
                <a:lnTo>
                  <a:pt x="14582" y="0"/>
                </a:lnTo>
                <a:lnTo>
                  <a:pt x="14582" y="1953"/>
                </a:lnTo>
                <a:lnTo>
                  <a:pt x="0" y="195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0a8"/>
              </a:gs>
              <a:gs pos="100000">
                <a:srgbClr val="008a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 rot="21420000">
            <a:off x="-20520" y="223560"/>
            <a:ext cx="10099440" cy="714240"/>
          </a:xfrm>
          <a:custGeom>
            <a:avLst/>
            <a:gdLst>
              <a:gd name="textAreaLeft" fmla="*/ 0 w 10099440"/>
              <a:gd name="textAreaRight" fmla="*/ 10099800 w 1009944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0099676" h="714375">
                <a:moveTo>
                  <a:pt x="0" y="0"/>
                </a:moveTo>
                <a:lnTo>
                  <a:pt x="28057" y="0"/>
                </a:lnTo>
                <a:lnTo>
                  <a:pt x="28057" y="1986"/>
                </a:lnTo>
                <a:lnTo>
                  <a:pt x="0" y="1986"/>
                </a:lnTo>
                <a:lnTo>
                  <a:pt x="0" y="0"/>
                </a:lnTo>
                <a:close/>
              </a:path>
            </a:pathLst>
          </a:custGeom>
          <a:noFill/>
          <a:ln w="10800">
            <a:solidFill>
              <a:srgbClr val="008a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 rot="21420000">
            <a:off x="-15480" y="304560"/>
            <a:ext cx="10113840" cy="583920"/>
          </a:xfrm>
          <a:custGeom>
            <a:avLst/>
            <a:gdLst>
              <a:gd name="textAreaLeft" fmla="*/ 0 w 10113840"/>
              <a:gd name="textAreaRight" fmla="*/ 10114200 w 1011384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10113963" h="584200">
                <a:moveTo>
                  <a:pt x="0" y="0"/>
                </a:moveTo>
                <a:lnTo>
                  <a:pt x="28096" y="0"/>
                </a:lnTo>
                <a:lnTo>
                  <a:pt x="28096" y="1623"/>
                </a:lnTo>
                <a:lnTo>
                  <a:pt x="0" y="1623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7"/>
          </p:nvPr>
        </p:nvSpPr>
        <p:spPr>
          <a:xfrm>
            <a:off x="3446280" y="688644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8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E72D5-FD47-4B77-B1D4-2C5527545A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682560" y="279360"/>
            <a:ext cx="90709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Cambria"/>
              </a:rPr>
              <a:t>Русский язы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4500000" y="1779480"/>
            <a:ext cx="21726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entury"/>
              </a:rPr>
              <a:t>1 клас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1573200" y="3090960"/>
            <a:ext cx="696744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FD624-38AD-4423-83CE-A137DDB5DA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722304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12259-1F3A-4FD0-93AC-26CE617E37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2"/>
          <a:stretch/>
        </p:blipFill>
        <p:spPr>
          <a:xfrm>
            <a:off x="992160" y="1160640"/>
            <a:ext cx="8399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736120" y="7007400"/>
            <a:ext cx="8395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DB516-7157-4060-8E22-8C602DF768AE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rcRect l="0" t="0" r="0" b="28537"/>
          <a:stretch/>
        </p:blipFill>
        <p:spPr>
          <a:xfrm>
            <a:off x="1833480" y="272880"/>
            <a:ext cx="6734160" cy="6710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503280" y="611280"/>
            <a:ext cx="906948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300"/>
            </a:br>
            <a:br>
              <a:rPr sz="7300"/>
            </a:br>
            <a:endParaRPr b="0" lang="en-US" sz="7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Cambria"/>
              </a:rPr>
              <a:t>План работы: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1008000" y="2808360"/>
            <a:ext cx="878544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Что такое ударение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 Какую роль выполняет ударение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В каких словах ставится       удар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2"/>
          <a:stretch/>
        </p:blipFill>
        <p:spPr>
          <a:xfrm>
            <a:off x="1655640" y="63360"/>
            <a:ext cx="624204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755640" y="824040"/>
            <a:ext cx="85694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12720" y="2494080"/>
            <a:ext cx="705672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"/>
              </a:rPr>
              <a:t>Ударение- это выделение голосом одного из слогов в слов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503280" y="755640"/>
            <a:ext cx="90694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mbria"/>
              </a:rPr>
              <a:t>Что такое ударение? </a:t>
            </a:r>
            <a:br>
              <a:rPr sz="4000"/>
            </a:b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mbria"/>
              </a:rPr>
              <a:t>Произнесите слова, выделяя удар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539640" y="1779480"/>
            <a:ext cx="152244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3"/>
          <a:srcRect l="0" t="10630" r="0" b="14372"/>
          <a:stretch/>
        </p:blipFill>
        <p:spPr>
          <a:xfrm>
            <a:off x="7683480" y="4208400"/>
            <a:ext cx="2198880" cy="1720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4"/>
          <a:srcRect l="0" t="0" r="23560" b="0"/>
          <a:stretch/>
        </p:blipFill>
        <p:spPr>
          <a:xfrm>
            <a:off x="2468520" y="3565440"/>
            <a:ext cx="1774800" cy="3238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5"/>
          <a:stretch/>
        </p:blipFill>
        <p:spPr>
          <a:xfrm>
            <a:off x="4821120" y="4773600"/>
            <a:ext cx="2646360" cy="1992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6"/>
          <a:stretch/>
        </p:blipFill>
        <p:spPr>
          <a:xfrm>
            <a:off x="7540560" y="1922400"/>
            <a:ext cx="1617840" cy="1381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7"/>
          <a:stretch/>
        </p:blipFill>
        <p:spPr>
          <a:xfrm>
            <a:off x="4608360" y="2195640"/>
            <a:ext cx="238464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755640" y="-558720"/>
            <a:ext cx="856944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368360" y="1547640"/>
            <a:ext cx="705636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ногда ударение меняет значение слова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лубы (танцевальные)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лубы (пара,дыма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 flipV="1">
            <a:off x="3311640" y="2766960"/>
            <a:ext cx="131760" cy="22248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4"/>
          <p:cNvSpPr/>
          <p:nvPr/>
        </p:nvSpPr>
        <p:spPr>
          <a:xfrm flipV="1">
            <a:off x="3887640" y="3559320"/>
            <a:ext cx="136800" cy="22536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"/>
          <p:cNvPicPr/>
          <p:nvPr/>
        </p:nvPicPr>
        <p:blipFill>
          <a:blip r:embed="rId2"/>
          <a:stretch/>
        </p:blipFill>
        <p:spPr>
          <a:xfrm>
            <a:off x="2612880" y="720720"/>
            <a:ext cx="401004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503280" y="1763640"/>
            <a:ext cx="823284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787320" y="708120"/>
            <a:ext cx="8032680" cy="56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673200" y="922320"/>
            <a:ext cx="8037360" cy="5434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3"/>
          <a:srcRect l="0" t="96947" r="94066" b="0"/>
          <a:stretch/>
        </p:blipFill>
        <p:spPr>
          <a:xfrm>
            <a:off x="708120" y="6378480"/>
            <a:ext cx="2016000" cy="7034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4"/>
          <a:srcRect l="50332" t="0" r="0" b="0"/>
          <a:stretch/>
        </p:blipFill>
        <p:spPr>
          <a:xfrm>
            <a:off x="4646520" y="1181160"/>
            <a:ext cx="3946680" cy="5371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"/>
          <p:cNvPicPr/>
          <p:nvPr/>
        </p:nvPicPr>
        <p:blipFill>
          <a:blip r:embed="rId5"/>
          <a:srcRect l="93592" t="96947" r="0" b="0"/>
          <a:stretch/>
        </p:blipFill>
        <p:spPr>
          <a:xfrm>
            <a:off x="6615000" y="6378480"/>
            <a:ext cx="1968480" cy="6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503280" y="1763640"/>
            <a:ext cx="823284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2"/>
          <a:srcRect l="0" t="0" r="49935" b="0"/>
          <a:stretch/>
        </p:blipFill>
        <p:spPr>
          <a:xfrm>
            <a:off x="314280" y="787320"/>
            <a:ext cx="4332240" cy="5748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rcRect l="50069" t="0" r="0" b="0"/>
          <a:stretch/>
        </p:blipFill>
        <p:spPr>
          <a:xfrm>
            <a:off x="4646520" y="787320"/>
            <a:ext cx="4321440" cy="5748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4"/>
          <a:srcRect l="1486" t="95966" r="93508" b="978"/>
          <a:stretch/>
        </p:blipFill>
        <p:spPr>
          <a:xfrm>
            <a:off x="314280" y="6299280"/>
            <a:ext cx="1739880" cy="709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5"/>
          <a:srcRect l="92949" t="95966" r="1581" b="978"/>
          <a:stretch/>
        </p:blipFill>
        <p:spPr>
          <a:xfrm>
            <a:off x="7245360" y="6378480"/>
            <a:ext cx="1689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047A2-F4D3-4D73-B539-1E32665DE6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9F438-AFF3-42C9-9E6E-6BD9CB86EC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2"/>
          <a:srcRect l="7478" t="3490" r="5902" b="3490"/>
          <a:stretch/>
        </p:blipFill>
        <p:spPr>
          <a:xfrm>
            <a:off x="754200" y="604800"/>
            <a:ext cx="8731080" cy="634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03280" y="1763640"/>
            <a:ext cx="823284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2"/>
          <a:srcRect l="0" t="0" r="50536" b="0"/>
          <a:stretch/>
        </p:blipFill>
        <p:spPr>
          <a:xfrm>
            <a:off x="314280" y="944640"/>
            <a:ext cx="4253040" cy="5827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3"/>
          <a:srcRect l="49721" t="0" r="0" b="0"/>
          <a:stretch/>
        </p:blipFill>
        <p:spPr>
          <a:xfrm>
            <a:off x="4567320" y="826920"/>
            <a:ext cx="4410000" cy="5945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"/>
          <p:cNvPicPr/>
          <p:nvPr/>
        </p:nvPicPr>
        <p:blipFill>
          <a:blip r:embed="rId4"/>
          <a:srcRect l="935" t="95339" r="93851" b="963"/>
          <a:stretch/>
        </p:blipFill>
        <p:spPr>
          <a:xfrm>
            <a:off x="236520" y="6458040"/>
            <a:ext cx="1338120" cy="644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"/>
          <p:cNvPicPr/>
          <p:nvPr/>
        </p:nvPicPr>
        <p:blipFill>
          <a:blip r:embed="rId5"/>
          <a:srcRect l="93103" t="95339" r="1588" b="0"/>
          <a:stretch/>
        </p:blipFill>
        <p:spPr>
          <a:xfrm>
            <a:off x="7718400" y="6535800"/>
            <a:ext cx="110160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503280" y="324000"/>
            <a:ext cx="90709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mbria"/>
              </a:rPr>
              <a:t>В каких словах ставится       ударение </a:t>
            </a:r>
            <a:br>
              <a:rPr sz="36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mbria"/>
              </a:rPr>
              <a:t>В каждом слове спряталось животное, насекомое или птица. Найди их и напиши эти сл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503280" y="2771640"/>
            <a:ext cx="9070920" cy="38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елевизор, коньки, листок, мужчина, ракита, чертёж, стриж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3"/>
          <p:cNvSpPr/>
          <p:nvPr/>
        </p:nvSpPr>
        <p:spPr>
          <a:xfrm>
            <a:off x="1224000" y="3419640"/>
            <a:ext cx="86364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 flipV="1">
            <a:off x="3600360" y="3414600"/>
            <a:ext cx="1224000" cy="2088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5"/>
          <p:cNvSpPr/>
          <p:nvPr/>
        </p:nvSpPr>
        <p:spPr>
          <a:xfrm>
            <a:off x="5761080" y="3419640"/>
            <a:ext cx="85716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6"/>
          <p:cNvSpPr/>
          <p:nvPr/>
        </p:nvSpPr>
        <p:spPr>
          <a:xfrm flipV="1">
            <a:off x="1295280" y="4135320"/>
            <a:ext cx="687600" cy="1440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>
            <a:off x="3456000" y="4140360"/>
            <a:ext cx="100008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>
            <a:off x="6696000" y="4140360"/>
            <a:ext cx="64764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863640" y="4788000"/>
            <a:ext cx="1440000" cy="1440"/>
          </a:xfrm>
          <a:prstGeom prst="line">
            <a:avLst/>
          </a:prstGeom>
          <a:ln cap="sq"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039680" y="2136600"/>
            <a:ext cx="853308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Знак ударения не ставится над            словом из одного слога и над   буквой ё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40194-C47C-4375-98E5-828B83795A8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722304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AC224-3BE7-400B-9C93-51E35942AF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992160" y="1160640"/>
            <a:ext cx="8399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503280" y="-574560"/>
            <a:ext cx="906948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лнце село за сел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м ужасно повезл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в гости к Ударению сходи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 все его секреты мы раскрыл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ц </a:t>
            </a:r>
            <a:r>
              <a:rPr b="1" lang="ru-RU" sz="3600" spc="-1" strike="noStrike">
                <a:solidFill>
                  <a:srgbClr val="ff1a1a"/>
                </a:solidFill>
                <a:latin typeface="Calibri"/>
              </a:rPr>
              <a:t>Ударени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,  конечно, «мОлодец»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 каждый из нас «молодЕц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7416720" y="1619280"/>
            <a:ext cx="1811520" cy="19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8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1"/>
          <a:srcRect l="2776" t="3701" r="3701" b="7407"/>
          <a:stretch/>
        </p:blipFill>
        <p:spPr>
          <a:xfrm>
            <a:off x="1468440" y="1557360"/>
            <a:ext cx="8334360" cy="55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503280" y="708120"/>
            <a:ext cx="9069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 u="sng">
                <a:solidFill>
                  <a:srgbClr val="c00000"/>
                </a:solidFill>
                <a:uFillTx/>
                <a:latin typeface="Cambria"/>
              </a:rPr>
              <a:t>Молодцы! </a:t>
            </a:r>
            <a:br>
              <a:rPr sz="6000"/>
            </a:br>
            <a:br>
              <a:rPr sz="6000"/>
            </a:br>
            <a:r>
              <a:rPr b="1" i="1" lang="ru-RU" sz="6000" spc="-1" strike="noStrike" u="sng">
                <a:solidFill>
                  <a:srgbClr val="c00000"/>
                </a:solidFill>
                <a:uFillTx/>
                <a:latin typeface="Cambria"/>
              </a:rPr>
              <a:t>Спасибо за урок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4897440" y="2851200"/>
            <a:ext cx="4857840" cy="3357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3"/>
          <a:stretch/>
        </p:blipFill>
        <p:spPr>
          <a:xfrm>
            <a:off x="9540720" y="5637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795240" y="3203640"/>
            <a:ext cx="8568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54D83-4326-4BD9-81FB-01C703D0BB2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420D9-BBAF-41B6-B78E-CC58AEAD1E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2"/>
          <a:srcRect l="0" t="0" r="0" b="69481"/>
          <a:stretch/>
        </p:blipFill>
        <p:spPr>
          <a:xfrm>
            <a:off x="276120" y="1398600"/>
            <a:ext cx="9802800" cy="174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rcRect l="0" t="0" r="31168" b="69481"/>
          <a:stretch/>
        </p:blipFill>
        <p:spPr>
          <a:xfrm>
            <a:off x="434880" y="3144960"/>
            <a:ext cx="6748560" cy="174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4"/>
          <a:srcRect l="0" t="0" r="31168" b="69481"/>
          <a:stretch/>
        </p:blipFill>
        <p:spPr>
          <a:xfrm>
            <a:off x="595440" y="5049720"/>
            <a:ext cx="6748200" cy="1746360"/>
          </a:xfrm>
          <a:prstGeom prst="rect">
            <a:avLst/>
          </a:prstGeom>
          <a:ln w="0">
            <a:noFill/>
          </a:ln>
        </p:spPr>
      </p:pic>
      <p:sp>
        <p:nvSpPr>
          <p:cNvPr id="196" name="Oval 7"/>
          <p:cNvSpPr/>
          <p:nvPr/>
        </p:nvSpPr>
        <p:spPr>
          <a:xfrm>
            <a:off x="7340760" y="4017960"/>
            <a:ext cx="237960" cy="237960"/>
          </a:xfrm>
          <a:prstGeom prst="ellipse">
            <a:avLst/>
          </a:prstGeom>
          <a:solidFill>
            <a:srgbClr val="000000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626240" y="5889600"/>
            <a:ext cx="225360" cy="22536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866880" y="1574640"/>
            <a:ext cx="856764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300" spc="-1" strike="noStrike" u="sng">
                <a:solidFill>
                  <a:srgbClr val="000000"/>
                </a:solidFill>
                <a:uFillTx/>
                <a:latin typeface="Cambria"/>
              </a:rPr>
              <a:t>Т А И З Н Ы О Р У  Э</a:t>
            </a:r>
            <a:endParaRPr b="0" lang="en-US" sz="7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2DF11-D53D-4090-8538-9E05EE78126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722304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58850-FF6B-46A8-AA40-79235DD062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87760" y="2913120"/>
            <a:ext cx="50760" cy="32288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022480" y="3463920"/>
            <a:ext cx="739800" cy="714240"/>
          </a:xfrm>
          <a:prstGeom prst="rect">
            <a:avLst/>
          </a:prstGeom>
          <a:solidFill>
            <a:srgbClr val="c0504d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6786720" y="2984400"/>
            <a:ext cx="739440" cy="714600"/>
          </a:xfrm>
          <a:prstGeom prst="rect">
            <a:avLst/>
          </a:prstGeom>
          <a:solidFill>
            <a:srgbClr val="0070c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786720" y="4811760"/>
            <a:ext cx="793440" cy="714240"/>
          </a:xfrm>
          <a:prstGeom prst="rect">
            <a:avLst/>
          </a:prstGeom>
          <a:solidFill>
            <a:srgbClr val="00b05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D79C5-D34F-4A0A-94D7-88EC248A4F0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10204-A503-49AD-9E1F-967E2DBAD4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2598840" y="393696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960800" y="3936960"/>
            <a:ext cx="167976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98840" y="2441520"/>
            <a:ext cx="1523520" cy="13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040360" y="2441520"/>
            <a:ext cx="3701880" cy="13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я 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4487760" y="2678040"/>
            <a:ext cx="4730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3780000" y="1495440"/>
            <a:ext cx="2626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ПОЗОВ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EBA7B-F527-4BB6-8943-317E738E91B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7223040" y="7007400"/>
            <a:ext cx="23526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D4733-3D04-42E5-81D6-60CA8B539C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2519280" y="3386160"/>
            <a:ext cx="167976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5040360" y="3386160"/>
            <a:ext cx="16794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3071520" y="1731960"/>
            <a:ext cx="11120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5275440" y="1654200"/>
            <a:ext cx="9381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4173480" y="2282760"/>
            <a:ext cx="78732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3B148-C26A-4685-BC17-C6008DC8B28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297FB-0171-4589-AFE6-D03380EC43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654200" y="267804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16520" y="2678040"/>
            <a:ext cx="168084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6535800" y="259884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330800" y="1495440"/>
            <a:ext cx="1574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851520" y="1495440"/>
            <a:ext cx="189072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2205000" y="1654200"/>
            <a:ext cx="1026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5905440" y="1258920"/>
            <a:ext cx="5616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3306600" y="1338120"/>
            <a:ext cx="7700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_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866520" y="5591160"/>
            <a:ext cx="78220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вывод сделаем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колько частей  распалось каждое слов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3D95E-C001-409B-96FF-A925D39F414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D0E05-0185-4DCC-B401-339718607C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654200" y="267804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016520" y="2678040"/>
            <a:ext cx="168084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6535800" y="2598840"/>
            <a:ext cx="1681200" cy="1511280"/>
          </a:xfrm>
          <a:prstGeom prst="cube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4330800" y="1495440"/>
            <a:ext cx="1574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6851520" y="1495440"/>
            <a:ext cx="189072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205000" y="1654200"/>
            <a:ext cx="1026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5905440" y="1258920"/>
            <a:ext cx="5616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306600" y="1338120"/>
            <a:ext cx="7700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_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0" y="0"/>
            <a:ext cx="10080720" cy="28728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5400000"/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9802800" y="0"/>
            <a:ext cx="276120" cy="755964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10800000"/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7272360"/>
            <a:ext cx="10080720" cy="28728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5400000"/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276120" cy="7559640"/>
          </a:xfrm>
          <a:prstGeom prst="rect">
            <a:avLst/>
          </a:prstGeom>
          <a:gradFill rotWithShape="0">
            <a:gsLst>
              <a:gs pos="0">
                <a:srgbClr val="3b003b"/>
              </a:gs>
              <a:gs pos="50000">
                <a:srgbClr val="800080"/>
              </a:gs>
              <a:gs pos="100000">
                <a:srgbClr val="3b003b"/>
              </a:gs>
            </a:gsLst>
            <a:lin ang="10800000"/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 rot="5400000">
            <a:off x="39600" y="-29880"/>
            <a:ext cx="506520" cy="573120"/>
          </a:xfrm>
          <a:prstGeom prst="rtTriangl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 rot="16200000">
            <a:off x="9529920" y="7013520"/>
            <a:ext cx="504720" cy="587520"/>
          </a:xfrm>
          <a:prstGeom prst="rtTriangl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0" y="7054920"/>
            <a:ext cx="573120" cy="504720"/>
          </a:xfrm>
          <a:prstGeom prst="rtTriangl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 rot="10980000">
            <a:off x="9559800" y="2520"/>
            <a:ext cx="525600" cy="595080"/>
          </a:xfrm>
          <a:prstGeom prst="rtTriangle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path path="rect">
              <a:fillToRect l="50000" t="50000" r="50000" b="50000"/>
            </a:path>
          </a:gradFill>
          <a:ln cap="sq"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0" y="6048360"/>
            <a:ext cx="9491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7223040" y="7007400"/>
            <a:ext cx="23511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CC849-9EDD-4790-9D29-BC1CAFBCF4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1" descr=""/>
          <p:cNvPicPr/>
          <p:nvPr/>
        </p:nvPicPr>
        <p:blipFill>
          <a:blip r:embed="rId2"/>
          <a:stretch/>
        </p:blipFill>
        <p:spPr>
          <a:xfrm>
            <a:off x="214200" y="254160"/>
            <a:ext cx="9528120" cy="6905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"/>
          <p:cNvPicPr/>
          <p:nvPr/>
        </p:nvPicPr>
        <p:blipFill>
          <a:blip r:embed="rId3"/>
          <a:stretch/>
        </p:blipFill>
        <p:spPr>
          <a:xfrm>
            <a:off x="1935000" y="4400640"/>
            <a:ext cx="5658120" cy="1774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"/>
          <p:cNvPicPr/>
          <p:nvPr/>
        </p:nvPicPr>
        <p:blipFill>
          <a:blip r:embed="rId4"/>
          <a:stretch/>
        </p:blipFill>
        <p:spPr>
          <a:xfrm>
            <a:off x="1654200" y="3170160"/>
            <a:ext cx="3124080" cy="309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"/>
          <p:cNvPicPr/>
          <p:nvPr/>
        </p:nvPicPr>
        <p:blipFill>
          <a:blip r:embed="rId5"/>
          <a:stretch/>
        </p:blipFill>
        <p:spPr>
          <a:xfrm>
            <a:off x="1968480" y="2136600"/>
            <a:ext cx="5583240" cy="3838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"/>
          <p:cNvPicPr/>
          <p:nvPr/>
        </p:nvPicPr>
        <p:blipFill>
          <a:blip r:embed="rId6"/>
          <a:stretch/>
        </p:blipFill>
        <p:spPr>
          <a:xfrm>
            <a:off x="3633840" y="2136600"/>
            <a:ext cx="2566800" cy="4125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6" descr=""/>
          <p:cNvPicPr/>
          <p:nvPr/>
        </p:nvPicPr>
        <p:blipFill>
          <a:blip r:embed="rId7"/>
          <a:stretch/>
        </p:blipFill>
        <p:spPr>
          <a:xfrm>
            <a:off x="5141880" y="2136600"/>
            <a:ext cx="2648160" cy="3838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"/>
          <p:cNvPicPr/>
          <p:nvPr/>
        </p:nvPicPr>
        <p:blipFill>
          <a:blip r:embed="rId8"/>
          <a:stretch/>
        </p:blipFill>
        <p:spPr>
          <a:xfrm>
            <a:off x="5894280" y="2103480"/>
            <a:ext cx="1619280" cy="4071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8" descr=""/>
          <p:cNvPicPr/>
          <p:nvPr/>
        </p:nvPicPr>
        <p:blipFill>
          <a:blip r:embed="rId9"/>
          <a:stretch/>
        </p:blipFill>
        <p:spPr>
          <a:xfrm>
            <a:off x="4529160" y="2001960"/>
            <a:ext cx="4349880" cy="426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9" descr=""/>
          <p:cNvPicPr/>
          <p:nvPr/>
        </p:nvPicPr>
        <p:blipFill>
          <a:blip r:embed="rId10"/>
          <a:stretch/>
        </p:blipFill>
        <p:spPr>
          <a:xfrm>
            <a:off x="5018040" y="3608280"/>
            <a:ext cx="3603600" cy="2695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0" descr=""/>
          <p:cNvPicPr/>
          <p:nvPr/>
        </p:nvPicPr>
        <p:blipFill>
          <a:blip r:embed="rId11"/>
          <a:stretch/>
        </p:blipFill>
        <p:spPr>
          <a:xfrm>
            <a:off x="7526160" y="4543560"/>
            <a:ext cx="1224000" cy="15922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1"/>
          <p:cNvSpPr/>
          <p:nvPr/>
        </p:nvSpPr>
        <p:spPr>
          <a:xfrm>
            <a:off x="434880" y="6249960"/>
            <a:ext cx="851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434880" y="4024440"/>
            <a:ext cx="52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434880" y="309600"/>
            <a:ext cx="74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з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2183040" y="353880"/>
            <a:ext cx="6152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4225680" y="368280"/>
            <a:ext cx="7308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арабан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6978600" y="379440"/>
            <a:ext cx="6807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рактор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7"/>
          <p:cNvSpPr/>
          <p:nvPr/>
        </p:nvSpPr>
        <p:spPr>
          <a:xfrm>
            <a:off x="8849880" y="406440"/>
            <a:ext cx="461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ро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8"/>
          <p:cNvSpPr/>
          <p:nvPr/>
        </p:nvSpPr>
        <p:spPr>
          <a:xfrm>
            <a:off x="7797960" y="2351160"/>
            <a:ext cx="397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9"/>
          <p:cNvSpPr/>
          <p:nvPr/>
        </p:nvSpPr>
        <p:spPr>
          <a:xfrm>
            <a:off x="7829280" y="4284720"/>
            <a:ext cx="6166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е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30"/>
          <p:cNvSpPr/>
          <p:nvPr/>
        </p:nvSpPr>
        <p:spPr>
          <a:xfrm>
            <a:off x="8612280" y="6451560"/>
            <a:ext cx="753840" cy="601560"/>
          </a:xfrm>
          <a:custGeom>
            <a:avLst/>
            <a:gdLst>
              <a:gd name="textAreaLeft" fmla="*/ 38880 w 753840"/>
              <a:gd name="textAreaRight" fmla="*/ 714960 w 753840"/>
              <a:gd name="textAreaTop" fmla="*/ 38880 h 601560"/>
              <a:gd name="textAreaBottom" fmla="*/ 562680 h 601560"/>
            </a:gdLst>
            <a:ahLst/>
            <a:rect l="textAreaLeft" t="textAreaTop" r="textAreaRight" b="textAreaBottom"/>
            <a:pathLst>
              <a:path w="27065" h="21600">
                <a:moveTo>
                  <a:pt x="0" y="0"/>
                </a:moveTo>
                <a:lnTo>
                  <a:pt x="27065" y="0"/>
                </a:lnTo>
                <a:lnTo>
                  <a:pt x="27065" y="21600"/>
                </a:lnTo>
                <a:lnTo>
                  <a:pt x="0" y="21600"/>
                </a:lnTo>
                <a:close/>
              </a:path>
              <a:path fill="lightenLess" w="27065" h="21600">
                <a:moveTo>
                  <a:pt x="0" y="0"/>
                </a:moveTo>
                <a:lnTo>
                  <a:pt x="27065" y="0"/>
                </a:lnTo>
                <a:lnTo>
                  <a:pt x="25665" y="1400"/>
                </a:lnTo>
                <a:lnTo>
                  <a:pt x="1400" y="1400"/>
                </a:lnTo>
                <a:close/>
              </a:path>
              <a:path fill="darken" w="27065" h="21600">
                <a:moveTo>
                  <a:pt x="27065" y="0"/>
                </a:moveTo>
                <a:lnTo>
                  <a:pt x="27065" y="21600"/>
                </a:lnTo>
                <a:lnTo>
                  <a:pt x="25665" y="20200"/>
                </a:lnTo>
                <a:lnTo>
                  <a:pt x="25665" y="1400"/>
                </a:lnTo>
                <a:close/>
              </a:path>
              <a:path fill="darkenLess" w="27065" h="21600">
                <a:moveTo>
                  <a:pt x="27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65" y="20200"/>
                </a:lnTo>
                <a:close/>
              </a:path>
              <a:path fill="lighten" w="27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65" h="21600">
                <a:moveTo>
                  <a:pt x="13532" y="3837"/>
                </a:moveTo>
                <a:lnTo>
                  <a:pt x="16109" y="6448"/>
                </a:lnTo>
                <a:lnTo>
                  <a:pt x="16109" y="4707"/>
                </a:lnTo>
                <a:lnTo>
                  <a:pt x="17884" y="4707"/>
                </a:lnTo>
                <a:lnTo>
                  <a:pt x="17884" y="8224"/>
                </a:lnTo>
                <a:lnTo>
                  <a:pt x="20495" y="10800"/>
                </a:lnTo>
                <a:lnTo>
                  <a:pt x="18842" y="10800"/>
                </a:lnTo>
                <a:lnTo>
                  <a:pt x="18842" y="17989"/>
                </a:lnTo>
                <a:lnTo>
                  <a:pt x="8223" y="17989"/>
                </a:lnTo>
                <a:lnTo>
                  <a:pt x="8223" y="10800"/>
                </a:lnTo>
                <a:lnTo>
                  <a:pt x="6569" y="10800"/>
                </a:lnTo>
                <a:close/>
              </a:path>
              <a:path fill="darkenLess" w="27065" h="21600">
                <a:moveTo>
                  <a:pt x="16109" y="6448"/>
                </a:moveTo>
                <a:lnTo>
                  <a:pt x="16109" y="4707"/>
                </a:lnTo>
                <a:lnTo>
                  <a:pt x="17884" y="4707"/>
                </a:lnTo>
                <a:lnTo>
                  <a:pt x="17884" y="8224"/>
                </a:lnTo>
                <a:close/>
              </a:path>
              <a:path fill="darkenLess" w="27065" h="21600">
                <a:moveTo>
                  <a:pt x="12610" y="14299"/>
                </a:moveTo>
                <a:lnTo>
                  <a:pt x="14455" y="14299"/>
                </a:lnTo>
                <a:lnTo>
                  <a:pt x="14455" y="17989"/>
                </a:lnTo>
                <a:lnTo>
                  <a:pt x="18842" y="17989"/>
                </a:lnTo>
                <a:lnTo>
                  <a:pt x="18842" y="10800"/>
                </a:lnTo>
                <a:lnTo>
                  <a:pt x="8223" y="10800"/>
                </a:lnTo>
                <a:lnTo>
                  <a:pt x="8223" y="17989"/>
                </a:lnTo>
                <a:lnTo>
                  <a:pt x="12610" y="17989"/>
                </a:lnTo>
                <a:close/>
              </a:path>
            </a:pathLst>
          </a:cu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1"/>
          <p:cNvSpPr/>
          <p:nvPr/>
        </p:nvSpPr>
        <p:spPr>
          <a:xfrm>
            <a:off x="7578720" y="6583320"/>
            <a:ext cx="87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 3 с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6:43:45Z</dcterms:created>
  <dc:creator>1</dc:creator>
  <dc:description/>
  <dc:language>en-US</dc:language>
  <cp:lastModifiedBy>Лидия</cp:lastModifiedBy>
  <dcterms:modified xsi:type="dcterms:W3CDTF">2020-03-31T09:09:56Z</dcterms:modified>
  <cp:revision>31</cp:revision>
  <dc:subject/>
  <dc:title>весна</dc:title>
</cp:coreProperties>
</file>